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929-3D76-4A03-9743-A7CA8D65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DA5-EC88-4E54-AA57-9D82204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F9B-7CF6-44A0-A513-9106DD53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184-F5BB-4A88-969F-FB854AE6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C36-D7B7-477D-ABD4-971855C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816-2AAF-47C7-9245-67F1D35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3C1-ED7D-4513-85C9-1F90910F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242-E9FC-47C8-8E19-A1AB641B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41F-1886-412E-86A4-2605913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83A-ED83-4B90-B473-847E84B2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A58-430B-4C32-98C5-AE3FF03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3CB-2C92-4901-AC7C-2E1240C2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4B4-6055-41AE-BFB9-3EE53CBED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749600"/>
            <a:ext cx="5790960" cy="30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82800" y="468468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384880"/>
            <a:ext cx="1676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A</cp:lastModifiedBy>
  <dcterms:modified xsi:type="dcterms:W3CDTF">2007-06-01T17:24:5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